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452-53F9-4CF2-848F-8EE95B17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856-7685-45F2-AD9A-9F9D3345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7FF-FD1D-4E0B-80A8-F35A6746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83E-2734-4D38-A4C4-56B78E33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3A0-02EA-43A7-AA86-CA26A835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180-4B55-4E74-964A-06EA46B1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DB4-39F8-471D-8BE6-10FA1BB1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896-C0A4-45A7-A2FF-035D466A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CD4-BB29-4AFC-9E93-AABACC26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103-2827-45AC-B43C-DE2A466F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BD8-E99C-4863-BE08-FD070317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57C-98F0-4E3F-9816-94F62738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9CCE-80F8-4A66-9D32-1C102BEDB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gnificant Sev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arah Beas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962520" y="487692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fluencing My Particular Field of Teaching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my area of specialization (general music/vocal/choir) I am well-suited and willing to contribute to its need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ing for student input and interest to drive decision-making in selecting topic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ng with other teachers to get a feel for interdisciplinary connections that can be made during mu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ying connected to fellow music educators and professionals to provide current, up-to-date, relevant topics and learning opportunities to my stud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am able to exert influence upon my professional peers and their idea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ng and providing feedback (i.e. through professional networking, through conversation within my department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lating My Work to Music Education at Larg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lationship between my plans and music education at large inclu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 aspiration and continual goal to provide relevant, thought-provoking, current opportunities to students (that deal with music in today's societ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ultivation of disposi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y ideas will contribute to the profession and the students it serve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and cultivating real-world musical experiences and interactions with mu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musical activities that highlight current innovations (such as technology) and rely on musical practices that are relevant in today's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305160" cy="3295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228600" y="5105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ies but good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191120" y="251460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638680" y="5105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ging a Focus for this Semest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s I may want to ask myself in the process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have I been doing that has been successful and meaningful to student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can I do to improve the current practices I have in plac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there anything that I need to eliminate due to irrelevancy or redundancy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can I synthesize and form a marriage between my "oldies but goodies" and new idea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goals, ambitions, and aspirations I would like to adopt during this semester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ing students to indicate topics of interest they would like to pursue (and putting them into practice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ing a curriculum that is not only comprehensive, but also leaves room for growth in ways that I could not have predicted (striving for "optimal ambiguity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weed out topics, activities, and/or practices that are irrelevant or redundant and need discar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795760" cy="4191120"/>
          </a:xfrm>
          <a:prstGeom prst="rect">
            <a:avLst/>
          </a:prstGeom>
          <a:ln w="0">
            <a:noFill/>
          </a:ln>
        </p:spPr>
      </p:pic>
      <p:cxnSp>
        <p:nvCxnSpPr>
          <p:cNvPr id="46" name="Straight Arrow Connector 6"/>
          <p:cNvCxnSpPr/>
          <p:nvPr/>
        </p:nvCxnSpPr>
        <p:spPr>
          <a:xfrm>
            <a:off x="3505320" y="4191120"/>
            <a:ext cx="2210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TextBox 7"/>
          <p:cNvSpPr/>
          <p:nvPr/>
        </p:nvSpPr>
        <p:spPr>
          <a:xfrm>
            <a:off x="0" y="6172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great id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791320" y="61722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’ll never do that ag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utobiographical Reflection as a Learn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57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 believe, to some degree, that teachers do incorporate they ways in which they were taught into their own teaching models. Things that affected me as a student includ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liked and enjoyed/wanted to reproduce in my own classr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swore I would never reproduce in my own classr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s/concepts/topics of study (either enjoyable or un-enjoyabl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 was taught were "important" things students should know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7200" y="27432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ing on my own experience as a student, I am able to use my experien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as a source of insight by reflecting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saw/experienced that were success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were creative and made students th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did not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were either relevant/irrelevant to both students and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"real world" at 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asured Values as a Teach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liefs and practices that remain central to my curricular thinking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ctations of excellence (excellence as a way of thinking/as an attitu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ctation of enrichment (teacher providing opportunities for student enrichment through the units of study/curricul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lusion (fostering an atmosphere wher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students feel welcome and their opinions/ideas valu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pects of my prior teaching I will likely perpetuate, maintain, and deepen as I return to the classro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intain my expectation of excell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serve the important of my performing ensembles (but deepen and shift their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here the focus becomes collaboration and teamwork, rather than the actual performance itsel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epen the aspect of inquiry within music activities (use more questions to direct student learning, curiosity, and explor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esh Perspectives and New Idea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as gathered from both my undergraduate and graduate study I use in my teach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oncept of learning units/spreading learning out over an extended period of time (and revisiting concepts to build new knowled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ic as a part of culture (both past and pres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forming ensemble importance (specifically for me: choru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ideas that I have incorporated into my thinking about teaching and lear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"Curriculum of Questions" where inquiry (both student- and teacher-centered) serves as the driving force to discover core musical concepts and ideas within the topic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ic as a comprehensive whole (implementing ALL the National/State Standards v. focusing on your "favorites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ok Activities at the beginning of projects/units (to inspire motivation, interest, and a "need-to-know" attitu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90720" y="1312920"/>
            <a:ext cx="7162560" cy="5545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"Disposal Site"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actices, strategies, and beliefs I no longer see fitting for my newly acquired ideas which I feel are ready to be discarded and left behi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ing songs for concerts as students sit in their seats and are unengaged with the learning process (they aren't given the opportunity to take ownership of what they are lear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iew of the teacher as the only fount of knowl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as a "dictator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idea that students are incapable of directing their own le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ly teacher-led and teacher-controlled activities (i.e. allowing students to take ownership and giving them a chance to lea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23:10:50Z</dcterms:created>
  <dc:creator>Sarah Beasley</dc:creator>
  <dc:description/>
  <dc:language>en-US</dc:language>
  <cp:lastModifiedBy>Sarah Beasley</cp:lastModifiedBy>
  <dcterms:modified xsi:type="dcterms:W3CDTF">2010-07-13T14:04:18Z</dcterms:modified>
  <cp:revision>9</cp:revision>
  <dc:subject/>
  <dc:title>The Significant Seven</dc:title>
</cp:coreProperties>
</file>