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2E07-6E21-46E4-B955-68E9175C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66C-84CA-4AC0-8063-7E9B7BA4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134-0778-4E08-AE5A-1A7205C5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8B7E-9733-46E6-A08D-8E15188F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2B43-C42A-44CB-91B0-BCC1E13D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1EEC-DF90-4C8B-89EA-08C31874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B129-1C98-4E93-B69F-C2B638BA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C81C-0399-4D4A-87EF-A284D707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66E3-45F3-42EC-94F1-D434092C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AFFE-4C5A-4B4A-9010-70856FEA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8504-E4DE-49FB-9360-C8D3CEE3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C61E-72E2-4E5E-B7A9-52625DDC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E4CC-7CB5-4A12-8717-D925291F2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gnificant Sev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Sarah Beas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962520" y="487692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334120" cy="53341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fluencing My Particular Field of Teaching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my area of specialization (general music/vocal/choir) I am well-suited and willing to contribute to its need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owing for student input and interest to drive decision-making in selecting topics of stu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llaborating with other teachers to get a feel for interdisciplinary connections that can be made during musi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ying connected to fellow music educators and professionals to provide current, up-to-date, relevant topics and learning opportunities to my stud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am able to exert influence upon my professional peers and their idea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llaborating and providing feedback (i.e. through professional networking, through conversation within my department,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lating My Work to Music Education at Larg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elationship between my plans and music education at large inclu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y aspiration and continual goal to provide relevant, thought-provoking, current opportunities to students (that deal with music in today's societ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cultivation of disposi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y ideas will contribute to the profession and the students it serve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ng and cultivating real-world musical experiences and interactions with musi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ng musical activities that highlight current innovations (such as technology) and rely on musical practices that are relevant in today's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5410080" y="1752480"/>
            <a:ext cx="3305160" cy="3295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228600" y="5105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ldies but goodi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4191120" y="2514600"/>
            <a:ext cx="10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5638680" y="5105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w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ging a Focus for this Semeste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s I may want to ask myself in the process a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have I been doing that has been successful and meaningful to student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can I do to improve the current practices I have in plac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 there anything that I need to eliminate due to irrelevancy or redundancy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can I synthesize and form a marriage between my "oldies but goodies" and new idea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goals, ambitions, and aspirations I would like to adopt during this semester a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owing students to indicate topics of interest they would like to pursue (and putting them into practice!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veloping a curriculum that is not only comprehensive, but also leaves room for growth in ways that I could not have predicted (striving for "optimal ambiguity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weed out topics, activities, and/or practices that are irrelevant or redundant and need discar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2914560" cy="3886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943600" y="1828800"/>
            <a:ext cx="2795760" cy="4191120"/>
          </a:xfrm>
          <a:prstGeom prst="rect">
            <a:avLst/>
          </a:prstGeom>
          <a:ln w="0">
            <a:noFill/>
          </a:ln>
        </p:spPr>
      </p:pic>
      <p:cxnSp>
        <p:nvCxnSpPr>
          <p:cNvPr id="46" name="Straight Arrow Connector 6"/>
          <p:cNvCxnSpPr/>
          <p:nvPr/>
        </p:nvCxnSpPr>
        <p:spPr>
          <a:xfrm>
            <a:off x="3505320" y="4191120"/>
            <a:ext cx="2210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" name="TextBox 7"/>
          <p:cNvSpPr/>
          <p:nvPr/>
        </p:nvSpPr>
        <p:spPr>
          <a:xfrm>
            <a:off x="0" y="6172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a great ide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5791320" y="61722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’ll never do that aga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utobiographical Reflection as a Learner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57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 believe, to some degree, that teachers do incorporate they ways in which they were taught into their own teaching models. Things that affected me as a student includ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actices I liked and enjoyed/wanted to reproduce in my own classro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actices I swore I would never reproduce in my own classro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ts/concepts/topics of study (either enjoyable or un-enjoyabl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I was taught were "important" things students should know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57200" y="2743200"/>
            <a:ext cx="7924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ing on my own experience as a student, I am able to use my experien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as a source of insight by reflecting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actices I saw/experienced that were success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Practices that were creative and made students th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Practices that did not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Practices that were either relevant/irrelevant to both students and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"real world" at 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reasured Values as a Teache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liefs and practices that remain central to my curricular thinking a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ectations of excellence (excellence as a way of thinking/as an attitud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ectation of enrichment (teacher providing opportunities for student enrichment through the units of study/curricul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lusion (fostering an atmosphere wher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students feel welcome and their opinions/ideas value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pects of my prior teaching I will likely perpetuate, maintain, and deepen as I return to the classroo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intain my expectation of excell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serve the important of my performing ensembles (but deepen and shift their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urpos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here the focus becomes collaboration and teamwork, rather than the actual performance itself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epen the aspect of inquiry within music activities (use more questions to direct student learning, curiosity, and exploratio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resh Perspectives and New Idea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as gathered from both my undergraduate and graduate study I use in my teach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concept of learning units/spreading learning out over an extended period of time (and revisiting concepts to build new knowledg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sic as a part of culture (both past and prese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rforming ensemble importance (specifically for me: choru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ideas that I have incorporated into my thinking about teaching and learn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"Curriculum of Questions" where inquiry (both student- and teacher-centered) serves as the driving force to discover core musical concepts and ideas within the topics of stu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sic as a comprehensive whole (implementing ALL the National/State Standards v. focusing on your "favorites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ok Activities at the beginning of projects/units (to inspire motivation, interest, and a "need-to-know" attitud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990720" y="1312920"/>
            <a:ext cx="7162560" cy="5545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"Disposal Site"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actices, strategies, and beliefs I no longer see fitting for my newly acquired ideas which I feel are ready to be discarded and left behi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ing songs for concerts as students sit in their seats and are unengaged with the learning process (they aren't given the opportunity to take ownership of what they are learn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iew of the teacher as the only fount of knowle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er as a "dictator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idea that students are incapable of directing their own lear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ly teacher-led and teacher-controlled activities (i.e. allowing students to take ownership and giving them a chance to lea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23:10:50Z</dcterms:created>
  <dc:creator>Sarah Beasley</dc:creator>
  <dc:description/>
  <dc:language>en-US</dc:language>
  <cp:lastModifiedBy>Sarah Beasley</cp:lastModifiedBy>
  <dcterms:modified xsi:type="dcterms:W3CDTF">2010-07-13T14:04:18Z</dcterms:modified>
  <cp:revision>9</cp:revision>
  <dc:subject/>
  <dc:title>The Significant Seven</dc:title>
</cp:coreProperties>
</file>