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A34-E3D8-4637-A0B7-4C850377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596-CF80-4866-8942-DB38430D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C75-68B9-4EA9-883C-A521015D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E62-7EA6-4483-96EE-71ADB71D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1CB1-DFEB-4FCD-9681-AC0D1918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873-411B-4F11-A180-F1B4C556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C423-F977-4E70-A1A0-E78EAFD4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B9A4-ADE5-4BB5-B2D4-8B7F1923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AD0-033E-4D42-AF87-18340B12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CB8-B5F3-4C7C-ACA8-4DE6371E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A8A-F7DB-4468-956E-102DF43D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40F-59EC-4792-992F-6BE8AA8F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3FDA-5F0C-4413-BA8D-3013FC589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gnificant Sev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Sarah Beas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962520" y="487692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fluencing My Particular Field of Teaching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my area of specialization (general music/vocal/choir) I am well-suited and willing to contribute to its need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owing for student input and interest to drive decision-making in selecting topics of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laborating with other teachers to get a feel for interdisciplinary connections that can be made during mus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ying connected to fellow music educators and professionals to provide current, up-to-date, relevant topics and learning opportunities to my stud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am able to exert influence upon my professional peers and their idea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laborating and providing feedback (i.e. through professional networking, through conversation within my department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lating My Work to Music Education at Larg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lationship between my plans and music education at large inclu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y aspiration and continual goal to provide relevant, thought-provoking, current opportunities to students (that deal with music in today's societ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cultivation of disposi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y ideas will contribute to the profession and the students it serve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and cultivating real-world musical experiences and interactions with mus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musical activities that highlight current innovations (such as technology) and rely on musical practices that are relevant in today's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305160" cy="3295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228600" y="5105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ldies but good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191120" y="251460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5638680" y="5105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ging a Focus for this Semeste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s I may want to ask myself in the process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have I been doing that has been successful and meaningful to student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can I do to improve the current practices I have in plac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there anything that I need to eliminate due to irrelevancy or redundancy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can I synthesize and form a marriage between my "oldies but goodies" and new idea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goals, ambitions, and aspirations I would like to adopt during this semester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owing students to indicate topics of interest they would like to pursue (and putting them into practice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veloping a curriculum that is not only comprehensive, but also leaves room for growth in ways that I could not have predicted (striving for "optimal ambiguity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weed out topics, activities, and/or practices that are irrelevant or redundant and need discar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2795760" cy="4191120"/>
          </a:xfrm>
          <a:prstGeom prst="rect">
            <a:avLst/>
          </a:prstGeom>
          <a:ln w="0">
            <a:noFill/>
          </a:ln>
        </p:spPr>
      </p:pic>
      <p:cxnSp>
        <p:nvCxnSpPr>
          <p:cNvPr id="46" name="Straight Arrow Connector 6"/>
          <p:cNvCxnSpPr/>
          <p:nvPr/>
        </p:nvCxnSpPr>
        <p:spPr>
          <a:xfrm>
            <a:off x="3505320" y="4191120"/>
            <a:ext cx="2210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" name="TextBox 7"/>
          <p:cNvSpPr/>
          <p:nvPr/>
        </p:nvSpPr>
        <p:spPr>
          <a:xfrm>
            <a:off x="0" y="6172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a great id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5791320" y="61722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’ll never do that ag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utobiographical Reflection as a Learne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57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 believe, to some degree, that teachers do incorporate they ways in which they were taught into their own teaching models. Things that affected me as a student includ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liked and enjoyed/wanted to reproduce in my own classro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swore I would never reproduce in my own classro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s/concepts/topics of study (either enjoyable or un-enjoyabl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I was taught were "important" things students should know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57200" y="27432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ing on my own experience as a student, I am able to use my experien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as a source of insight by reflecting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saw/experienced that were success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were creative and made students th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did not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were either relevant/irrelevant to both students and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"real world" at 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easured Values as a Teache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liefs and practices that remain central to my curricular thinking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ctations of excellence (excellence as a way of thinking/as an attitud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ctation of enrichment (teacher providing opportunities for student enrichment through the units of study/curricul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lusion (fostering an atmosphere wher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students feel welcome and their opinions/ideas value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pects of my prior teaching I will likely perpetuate, maintain, and deepen as I return to the classroo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intain my expectation of excell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serve the important of my performing ensembles (but deepen and shift their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urpos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here the focus becomes collaboration and teamwork, rather than the actual performance itsel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epen the aspect of inquiry within music activities (use more questions to direct student learning, curiosity, and explor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esh Perspectives and New Idea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as gathered from both my undergraduate and graduate study I use in my teach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concept of learning units/spreading learning out over an extended period of time (and revisiting concepts to build new knowled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ic as a part of culture (both past and pres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forming ensemble importance (specifically for me: choru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ideas that I have incorporated into my thinking about teaching and learn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"Curriculum of Questions" where inquiry (both student- and teacher-centered) serves as the driving force to discover core musical concepts and ideas within the topics of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ic as a comprehensive whole (implementing ALL the National/State Standards v. focusing on your "favorites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ok Activities at the beginning of projects/units (to inspire motivation, interest, and a "need-to-know" attitud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990720" y="1312920"/>
            <a:ext cx="7162560" cy="5545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"Disposal Site"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actices, strategies, and beliefs I no longer see fitting for my newly acquired ideas which I feel are ready to be discarded and left behi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ing songs for concerts as students sit in their seats and are unengaged with the learning process (they aren't given the opportunity to take ownership of what they are learn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iew of the teacher as the only fount of knowl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er as a "dictator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idea that students are incapable of directing their own lear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ly teacher-led and teacher-controlled activities (i.e. allowing students to take ownership and giving them a chance to lea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23:10:50Z</dcterms:created>
  <dc:creator>Sarah Beasley</dc:creator>
  <dc:description/>
  <dc:language>en-US</dc:language>
  <cp:lastModifiedBy>Sarah Beasley</cp:lastModifiedBy>
  <dcterms:modified xsi:type="dcterms:W3CDTF">2010-07-13T14:04:18Z</dcterms:modified>
  <cp:revision>9</cp:revision>
  <dc:subject/>
  <dc:title>The Significant Seven</dc:title>
</cp:coreProperties>
</file>