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443B3-AE17-4725-AC5F-D2708E6B2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326D2-A806-4E7F-AE3F-18F96E44E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4FB1D-14F1-470C-8D77-F088472DD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C489D-1128-4791-B611-E9034F357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61B02-7FB9-4701-BBF9-181B0FD42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85432-CF92-4C07-A4C1-A020D6F9F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D19DB-7C17-4B3A-B426-4AADE428F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C1F31-5AB5-4F73-8229-BC9AD50EE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B629A-952D-4DC1-8E71-F586CB189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C9B3F-55B5-44E0-8512-89FC46E62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05CE6-886E-49EC-B770-9E29E52EC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5CC1A-41CD-4720-AFA1-B32BD8C0A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3E251-54F2-4A27-952A-4FAC4D6807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Significant Sev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By Sarah Beasle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3962520" y="4876920"/>
            <a:ext cx="1047600" cy="104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1828800" y="1523880"/>
            <a:ext cx="5334120" cy="533412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Influencing My Particular Field of Teaching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457200" y="533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 my area of specialization (general music/vocal/choir) I am well-suited and willing to contribute to its needs by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Allowing for student input and interest to drive decision-making in selecting topics of stud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ollaborating with other teachers to get a feel for interdisciplinary connections that can be made during music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taying connected to fellow music educators and professionals to provide current, up-to-date, relevant topics and learning opportunities to my student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 am able to exert influence upon my professional peers and their ideas by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ollaborating and providing feedback (i.e. through professional networking, through conversation within my department, etc.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Relating My Work to Music Education at Large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relationship between my plans and music education at large include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My aspiration and continual goal to provide relevant, thought-provoking, current opportunities to students (that deal with music in today's society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he cultivation of disposition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y ideas will contribute to the profession and the students it serves by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reating and cultivating real-world musical experiences and interactions with music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reating musical activities that highlight current innovations (such as technology) and rely on musical practices that are relevant in today's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"/>
          <p:cNvPicPr/>
          <p:nvPr/>
        </p:nvPicPr>
        <p:blipFill>
          <a:blip r:embed="rId1"/>
          <a:stretch/>
        </p:blipFill>
        <p:spPr>
          <a:xfrm>
            <a:off x="228600" y="1447920"/>
            <a:ext cx="3429000" cy="34290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" descr=""/>
          <p:cNvPicPr/>
          <p:nvPr/>
        </p:nvPicPr>
        <p:blipFill>
          <a:blip r:embed="rId2"/>
          <a:stretch/>
        </p:blipFill>
        <p:spPr>
          <a:xfrm>
            <a:off x="5410080" y="1752480"/>
            <a:ext cx="3305160" cy="3295800"/>
          </a:xfrm>
          <a:prstGeom prst="rect">
            <a:avLst/>
          </a:prstGeom>
          <a:ln w="0">
            <a:noFill/>
          </a:ln>
        </p:spPr>
      </p:pic>
      <p:sp>
        <p:nvSpPr>
          <p:cNvPr id="69" name="TextBox 5"/>
          <p:cNvSpPr/>
          <p:nvPr/>
        </p:nvSpPr>
        <p:spPr>
          <a:xfrm>
            <a:off x="228600" y="5105520"/>
            <a:ext cx="32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ldies but goodie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6"/>
          <p:cNvSpPr/>
          <p:nvPr/>
        </p:nvSpPr>
        <p:spPr>
          <a:xfrm>
            <a:off x="4191120" y="2514600"/>
            <a:ext cx="10666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alibri"/>
              </a:rPr>
              <a:t>+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7"/>
          <p:cNvSpPr/>
          <p:nvPr/>
        </p:nvSpPr>
        <p:spPr>
          <a:xfrm>
            <a:off x="5638680" y="510552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ew ide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Forging a Focus for this Semester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457200" y="609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Questions I may want to ask myself in the process ar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What have I been doing that has been successful and meaningful to students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What can I do to improve the current practices I have in place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Is there anything that I need to eliminate due to irrelevancy or redundancy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How can I synthesize and form a marriage between my "oldies but goodies" and new ideas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ome goals, ambitions, and aspirations I would like to adopt during this semester ar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Allowing students to indicate topics of interest they would like to pursue (and putting them into practice!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Developing a curriculum that is not only comprehensive, but also leaves room for growth in ways that I could not have predicted (striving for "optimal ambiguity"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o weed out topics, activities, and/or practices that are irrelevant or redundant and need discard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"/>
          <p:cNvPicPr/>
          <p:nvPr/>
        </p:nvPicPr>
        <p:blipFill>
          <a:blip r:embed="rId1"/>
          <a:stretch/>
        </p:blipFill>
        <p:spPr>
          <a:xfrm>
            <a:off x="228600" y="2133720"/>
            <a:ext cx="2914560" cy="38862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3" descr=""/>
          <p:cNvPicPr/>
          <p:nvPr/>
        </p:nvPicPr>
        <p:blipFill>
          <a:blip r:embed="rId2"/>
          <a:stretch/>
        </p:blipFill>
        <p:spPr>
          <a:xfrm>
            <a:off x="5943600" y="1828800"/>
            <a:ext cx="2795760" cy="4191120"/>
          </a:xfrm>
          <a:prstGeom prst="rect">
            <a:avLst/>
          </a:prstGeom>
          <a:ln w="0">
            <a:noFill/>
          </a:ln>
        </p:spPr>
      </p:pic>
      <p:cxnSp>
        <p:nvCxnSpPr>
          <p:cNvPr id="46" name="Straight Arrow Connector 6"/>
          <p:cNvCxnSpPr/>
          <p:nvPr/>
        </p:nvCxnSpPr>
        <p:spPr>
          <a:xfrm>
            <a:off x="3505320" y="4191120"/>
            <a:ext cx="221040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7" name="TextBox 7"/>
          <p:cNvSpPr/>
          <p:nvPr/>
        </p:nvSpPr>
        <p:spPr>
          <a:xfrm>
            <a:off x="0" y="6172200"/>
            <a:ext cx="335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s is a great idea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8"/>
          <p:cNvSpPr/>
          <p:nvPr/>
        </p:nvSpPr>
        <p:spPr>
          <a:xfrm>
            <a:off x="5791320" y="6172200"/>
            <a:ext cx="304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’ll never do that agai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Autobiographical Reflection as a Learner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457200" y="457200"/>
            <a:ext cx="82296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I believe, to some degree, that teachers do incorporate they ways in which they were taught into their own teaching models. Things that affected me as a student include: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ractices I liked and enjoyed/wanted to reproduce in my own classro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ractices I swore I would never reproduce in my own classro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Units/concepts/topics of study (either enjoyable or un-enjoyable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What I was taught were "important" things students should know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3"/>
          <p:cNvSpPr/>
          <p:nvPr/>
        </p:nvSpPr>
        <p:spPr>
          <a:xfrm>
            <a:off x="457200" y="2743200"/>
            <a:ext cx="7924680" cy="21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rawing on my own experience as a student, I am able to use my experienc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as a source of insight by reflecting 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ractices I saw/experienced that were successfu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-Practices that were creative and made students thin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-Practices that did not wo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-Practices that were either relevant/irrelevant to both students and the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          "real world" at lar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3" descr=""/>
          <p:cNvPicPr/>
          <p:nvPr/>
        </p:nvPicPr>
        <p:blipFill>
          <a:blip r:embed="rId1"/>
          <a:stretch/>
        </p:blipFill>
        <p:spPr>
          <a:xfrm>
            <a:off x="0" y="1371600"/>
            <a:ext cx="9144000" cy="54864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Treasured Values as a Teacher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457200" y="533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eliefs and practices that remain central to my curricular thinking ar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Expectations of excellence (excellence as a way of thinking/as an attitude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Expectation of enrichment (teacher providing opportunities for student enrichment through the units of study/curricula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Inclusion (fostering an atmosphere where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all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students feel welcome and their opinions/ideas valued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spects of my prior teaching I will likely perpetuate, maintain, and deepen as I return to the classroom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Maintain my expectation of excellenc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reserve the important of my performing ensembles (but deepen and shift their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purpose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where the focus becomes collaboration and teamwork, rather than the actual performance itself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Deepen the aspect of inquiry within music activities (use more questions to direct student learning, curiosity, and exploration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Fresh Perspectives and New Ideas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deas gathered from both my undergraduate and graduate study I use in my teaching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he concept of learning units/spreading learning out over an extended period of time (and revisiting concepts to build new knowledge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Music as a part of culture (both past and present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erforming ensemble importance (specifically for me: chorus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ew ideas that I have incorporated into my thinking about teaching and learning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"Curriculum of Questions" where inquiry (both student- and teacher-centered) serves as the driving force to discover core musical concepts and ideas within the topics of stud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Music as a comprehensive whole (implementing ALL the National/State Standards v. focusing on your "favorites"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Hook Activities at the beginning of projects/units (to inspire motivation, interest, and a "need-to-know" attitude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990720" y="1312920"/>
            <a:ext cx="7162560" cy="554508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"Disposal Site"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457200" y="380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actices, strategies, and beliefs I no longer see fitting for my newly acquired ideas which I feel are ready to be discarded and left behind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aching songs for concerts as students sit in their seats and are unengaged with the learning process (they aren't given the opportunity to take ownership of what they are learning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view of the teacher as the only fount of knowledg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acher as a "dictator“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idea that students are incapable of directing their own learn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otally teacher-led and teacher-controlled activities (i.e. allowing students to take ownership and giving them a chance to lea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12T23:10:50Z</dcterms:created>
  <dc:creator>Sarah Beasley</dc:creator>
  <dc:description/>
  <dc:language>en-US</dc:language>
  <cp:lastModifiedBy>Sarah Beasley</cp:lastModifiedBy>
  <dcterms:modified xsi:type="dcterms:W3CDTF">2010-07-13T14:04:18Z</dcterms:modified>
  <cp:revision>9</cp:revision>
  <dc:subject/>
  <dc:title>The Significant Seven</dc:title>
</cp:coreProperties>
</file>